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9AC2-BAC4-4A7B-BF62-309696713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6578-BFF1-4671-9E4D-19008CFB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5547-3A62-41FC-B2F5-4E1069E51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D502-E34B-4EE4-84B6-611B18F9B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B084-3987-4A54-A5A8-17435E08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F5DF-2C1E-4972-8669-E8FDD833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0A8A-FE25-4DAD-A2CE-F2285D3A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F72F-B7F6-489F-A235-D88163FE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4A2A-21BF-4C5C-8D9D-51CF8185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8C7A-C402-48AE-AD94-F6585298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1F76-CF88-485F-9E5A-855CA0F7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E470-2744-4B90-A11E-7C63831E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457C-9DC9-4ECA-A912-80E52E4394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4"/>
          <p:cNvSpPr/>
          <p:nvPr/>
        </p:nvSpPr>
        <p:spPr>
          <a:xfrm>
            <a:off x="0" y="9296280"/>
            <a:ext cx="7238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1905120" y="228600"/>
            <a:ext cx="441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 of movie in English he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Centered at the top of pap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neatly and colo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i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1600200" y="3124080"/>
            <a:ext cx="426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llustration in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iddle 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must be something having to do with movie or title.  This must be in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lor, nea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ppeal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 This is your advertisement.  You want to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ti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viewer to see the movi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0" y="6248520"/>
            <a:ext cx="685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h will ins Kino gehen.  Ich sehe gern _____________.   Ich will _____________ sehen.   Der Film spielt in _______________________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____________ spielt am _____________ , ____________________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m ___________________, _____________________  und ______________________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0" y="7315200"/>
            <a:ext cx="6858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of movi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on what day of the week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date written out in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written in numbers ___.___and then words      time written in numbers and then word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written in numbers and then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990720" y="52578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this toward the bottom of the paper. You must spell out all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umbers!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Straight Arrow Connector 11"/>
          <p:cNvCxnSpPr/>
          <p:nvPr/>
        </p:nvCxnSpPr>
        <p:spPr>
          <a:xfrm flipH="1">
            <a:off x="2971080" y="5791320"/>
            <a:ext cx="15300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8" name="TextBox 8"/>
          <p:cNvSpPr/>
          <p:nvPr/>
        </p:nvSpPr>
        <p:spPr>
          <a:xfrm>
            <a:off x="3962520" y="6629400"/>
            <a:ext cx="33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f the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310320" y="6553080"/>
            <a:ext cx="113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of mov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3625920" y="6324480"/>
            <a:ext cx="33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re (auf deut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4T20:57:09Z</dcterms:created>
  <dc:creator>ahart</dc:creator>
  <dc:description/>
  <dc:language>en-US</dc:language>
  <cp:lastModifiedBy>tmsadmin</cp:lastModifiedBy>
  <dcterms:modified xsi:type="dcterms:W3CDTF">2013-11-15T12:34:22Z</dcterms:modified>
  <cp:revision>9</cp:revision>
  <dc:subject/>
  <dc:title>Slide 1</dc:title>
</cp:coreProperties>
</file>